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58346"/>
        <c:axId val="32505288"/>
      </c:barChart>
      <c:catAx>
        <c:axId val="1305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5288"/>
        <c:crosses val="autoZero"/>
        <c:auto val="1"/>
        <c:lblAlgn val="ctr"/>
        <c:lblOffset val="100"/>
        <c:noMultiLvlLbl val="0"/>
      </c:catAx>
      <c:valAx>
        <c:axId val="32505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5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920-39DA-4179-A352-54AC605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C3C-1167-4161-B66B-C6209FF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B50-9F74-40C6-A7F9-FF3366BC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6F0-D0A2-49B1-85F3-89AF8FE6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B0D-6C7B-44CB-B3DB-30CC9DD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194-D4A9-483E-9B07-7885D0E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4D8-D67D-4452-BBC1-B7C3483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87E-4CA1-41C1-AD52-31C45ECB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3E8-520E-4BE1-98D0-F6CA228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7A9-A37F-4B7C-80AE-697FDCC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E5E-0E3F-44DB-82C7-6D349D9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78C-A93B-4274-A1FE-4E33061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D577-469D-4F44-958C-E66B2C0DA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