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10339"/>
        <c:axId val="83614499"/>
      </c:barChart>
      <c:catAx>
        <c:axId val="75410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14499"/>
        <c:crosses val="autoZero"/>
        <c:auto val="1"/>
        <c:lblAlgn val="ctr"/>
        <c:lblOffset val="100"/>
        <c:noMultiLvlLbl val="0"/>
      </c:catAx>
      <c:valAx>
        <c:axId val="83614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10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85D-34BD-479B-89ED-358EA33B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D58-AC5E-4926-B547-C8FBF8BF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DD9-188A-46CE-B570-0E43083C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F7B-C79B-4175-891B-DD171D52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6C6-EF6E-45FB-8B87-829E686A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F30-0DFC-4147-AF27-D53F930A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BF0-5A52-45E0-898B-85E9264F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747-B92C-41AA-BBF8-803C376C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C61-E8F9-48A0-88C9-F46EFA24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1A5-C991-4395-9959-9CACFEA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E01-581C-4D8B-A44A-A24190F6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F74-1DBB-4CEE-ADEA-111B5A59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5422C-0113-45FF-8A97-89C2B2A7B0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